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347-DEED-4B23-A361-9BE1FACF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707-FB20-40AF-A9B9-B9E787D3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680-E44F-4D78-B6C2-DAC4E237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234-E0D4-4B9D-BDA4-01D7107E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C506-EF2A-44F8-AD04-A969F3EC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689D-D873-42BE-831B-55FD7DF7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4F62-2F39-48CB-A7DA-A6C4F20A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F052-263A-4780-8534-339638AF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F903-EC42-46ED-AF9F-8C451D35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D886-752A-4319-B9DB-37428D39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B42A-71D4-46F8-9C95-317E5020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D54-C90C-4EC8-B0D8-3596ABDE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5E79-0C82-4CE8-8EEC-DB8CC1D1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77B2-7679-450C-B5B8-56A7EE90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8396-B768-41BB-9CC9-062A647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EA3B-943A-42D9-8594-F5068BEB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0825-5E60-4E84-B07E-1558AA26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544-D718-485E-A121-6D1A0080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B5B-00B9-4833-B026-5B10AF97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4AC-4F5F-46B6-8930-5F648F2B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E34-95ED-48BC-8FD2-7DB0378E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8A4-9AC6-40CA-B8F0-B3278C1F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B13-F0A8-4637-910D-81025EE4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101-8E52-4960-9D23-ADFD45A3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5BC3-5D69-4015-B03B-DD0708E413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8D34-4327-4C50-B315-DA607A4A4D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A Low Power SRAM Desig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roline Andrew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obert Hun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ousef Shakhshe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cember 6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, 2007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828800" y="1676520"/>
          <a:ext cx="6400800" cy="4020840"/>
        </p:xfrm>
        <a:graphic>
          <a:graphicData uri="http://schemas.openxmlformats.org/drawingml/2006/table">
            <a:tbl>
              <a:tblPr/>
              <a:tblGrid>
                <a:gridCol w="2203560"/>
                <a:gridCol w="419724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388006  W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 ns *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 Cell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9.04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Effective: 182.03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099200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.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e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.56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2.8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e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4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imul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6238800" cy="3915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65040" y="31608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ad and wri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9640" y="4038480"/>
            <a:ext cx="268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ense amp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fter 0.5 V drop in 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put latch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gister on rising 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f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imulations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55120" y="2057400"/>
            <a:ext cx="727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 simulated at all voltages, temperatures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cess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(4.5, 5, 5.5) T(0C, 27C, 50C) P(TT, FF, SS, SF, 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one for 1bit Read an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2080" y="42418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 also simulated under 32-bit Read an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84120" y="2133720"/>
            <a:ext cx="7383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ed successfully designed and simulated u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ariety of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ower consumption is minimized with enable signal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perip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rea is minimized with overlapping bitcells and s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mp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urther development could result in more power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2440" y="2286000"/>
            <a:ext cx="733896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velop a functioning SRAM memory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mplement design features to reduce overal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sign a robust memory device that operates ov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arge range of temperatures, voltages, and process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Our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9040" y="1595520"/>
            <a:ext cx="523728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MB memory array divided into 16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 contains 256 x 256 bit cell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2666880"/>
            <a:ext cx="4957560" cy="380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2819520"/>
            <a:ext cx="335304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6-input multiplexer used to select correc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819520"/>
            <a:ext cx="76212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705360" y="1905120"/>
            <a:ext cx="22860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44960" y="151920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ory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3200400"/>
            <a:ext cx="533160" cy="6858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09880" y="3809880"/>
            <a:ext cx="914400" cy="609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8280" y="419112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ock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5638680"/>
            <a:ext cx="838080" cy="6098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657600" y="6019560"/>
            <a:ext cx="236232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15720" y="58672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put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sign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4560" y="1523880"/>
            <a:ext cx="286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yout for one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809880"/>
            <a:ext cx="38862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ory cells acce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olumn and row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rs built with hierarchical desig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p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53341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9880" y="1555920"/>
            <a:ext cx="4857840" cy="4341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63680" y="2241720"/>
            <a:ext cx="26953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MOS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ized larger than 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MOS W=1.5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MOS W=4.05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L NMOS W=1.8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pecia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52388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 signals are distributed throughout the memory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8560" y="2814480"/>
            <a:ext cx="5000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 for a considerable reduction in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one memory block is active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e amplifiers enabled only during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52200" y="5405400"/>
            <a:ext cx="71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read or write are not asserted, entire periphery is 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eatures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2362320"/>
          <a:ext cx="4419360" cy="2538360"/>
        </p:xfrm>
        <a:graphic>
          <a:graphicData uri="http://schemas.openxmlformats.org/drawingml/2006/table">
            <a:tbl>
              <a:tblPr/>
              <a:tblGrid>
                <a:gridCol w="1084320"/>
                <a:gridCol w="917280"/>
                <a:gridCol w="916200"/>
                <a:gridCol w="750960"/>
                <a:gridCol w="750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 P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f P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ty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ty 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se A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74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4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8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6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906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54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062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78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x G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2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p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M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0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6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-M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9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082520" y="1595520"/>
            <a:ext cx="77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consumption of active components versus inactiv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65920" y="2664000"/>
            <a:ext cx="317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active power is much less t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ve power for all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ipher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4200" y="5376960"/>
            <a:ext cx="73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: Inactive devices are consuming much lower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power, preventing wasteful consumption when not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Layout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19720" y="1143000"/>
            <a:ext cx="4405320" cy="336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19720" y="990720"/>
            <a:ext cx="4495680" cy="1676160"/>
          </a:xfrm>
          <a:prstGeom prst="ellipse">
            <a:avLst/>
          </a:prstGeom>
          <a:noFill/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752480"/>
            <a:ext cx="838440" cy="1526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 6T bi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362320"/>
            <a:ext cx="411480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mory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t cells are tiled and overlap on all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a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239.04 μ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ffective: 182.03 μ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e amps snap directly onto bit cell array without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666880"/>
            <a:ext cx="4419720" cy="19051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629400" y="46479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4680" y="53290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 Sense 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Layout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176800" cy="433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4343400"/>
            <a:ext cx="2895480" cy="9907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334120"/>
            <a:ext cx="2895840" cy="1295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23880" y="1981080"/>
            <a:ext cx="1905120" cy="990720"/>
          </a:xfrm>
          <a:prstGeom prst="line">
            <a:avLst/>
          </a:prstGeom>
          <a:ln w="28440">
            <a:solidFill>
              <a:srgbClr val="ff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828800"/>
            <a:ext cx="1066680" cy="28195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038120" y="4114800"/>
            <a:ext cx="205740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81120" y="5715000"/>
            <a:ext cx="121932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6520" y="54817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 to 1 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4560" y="38815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mission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21320" y="17478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lin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17:05Z</dcterms:created>
  <dc:creator>Robert Hunter</dc:creator>
  <dc:description/>
  <dc:language>en-US</dc:language>
  <cp:lastModifiedBy>ITC Labs and Classrooms</cp:lastModifiedBy>
  <dcterms:modified xsi:type="dcterms:W3CDTF">2007-12-05T20:10:59Z</dcterms:modified>
  <cp:revision>56</cp:revision>
  <dc:subject/>
  <dc:title>A Low Power SRAM Design</dc:title>
</cp:coreProperties>
</file>